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42A9-A656-4653-B071-5EF5B4612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itional impetu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ersonally involved in food securit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elped author DC Community Food Security Position Paper and see the benefits at so man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lfishly want to learn more about gard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ach the emerging leaders (our students) proper gardening techniques in which they can bring the techniques to the communities they work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793-E733-4260-8C0E-D5B42C47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028-80DE-4D42-AA30-23967848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300-5FAD-44DA-9305-0A8FE8C7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66A-EE03-466E-A50D-B043321A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2AD-CC99-4D18-8803-48E00624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2D5-597A-4038-88AD-1169E398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8D5-7329-4A4E-966A-FB86C73A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C5B-767D-46D4-B798-1A218F68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D20-0068-42EF-8224-9588ABB5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8F8-6757-4840-81ED-490E805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5F5-E95E-42F8-9F1F-7080BA64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3E2-08D5-4F82-8C13-3D30C937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4034-DFFD-4930-A64D-4D7B8331C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mpetus for a Campus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va Scotia repo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prevalence of food in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rates of obe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w vegetable and fruit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w physical activity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Health) educators can help address these issues via involvement in community gar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9:33:55Z</dcterms:created>
  <dc:creator>Rebecca Green</dc:creator>
  <dc:description/>
  <dc:language>en-US</dc:language>
  <cp:lastModifiedBy>Rebecca Green</cp:lastModifiedBy>
  <dcterms:modified xsi:type="dcterms:W3CDTF">2010-02-24T19:34:13Z</dcterms:modified>
  <cp:revision>1</cp:revision>
  <dc:subject/>
  <dc:title>Slide 1</dc:title>
</cp:coreProperties>
</file>